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6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EB2F-D0E0-431A-94CE-48275EEBB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6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F546-F395-4BA9-8802-6D408573C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334360" y="5257800"/>
            <a:ext cx="7207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JUSTING ENTR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D:\C21 PowerPoint\Multi_Journal\art for blue\Ch26\Ch26-04a.jpg"/>
          <p:cNvPicPr/>
          <p:nvPr/>
        </p:nvPicPr>
        <p:blipFill>
          <a:blip r:embed="rId1"/>
          <a:srcRect l="17114" t="0" r="0" b="49487"/>
          <a:stretch/>
        </p:blipFill>
        <p:spPr>
          <a:xfrm>
            <a:off x="457200" y="914400"/>
            <a:ext cx="6477120" cy="5572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2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4, page 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D:\C21 PowerPoint\Multi_Journal\art for blue\Ch26\Ch26-04b.jpg"/>
          <p:cNvPicPr/>
          <p:nvPr/>
        </p:nvPicPr>
        <p:blipFill>
          <a:blip r:embed="rId1"/>
          <a:srcRect l="16004" t="0" r="0" b="72149"/>
          <a:stretch/>
        </p:blipFill>
        <p:spPr>
          <a:xfrm>
            <a:off x="457200" y="1143000"/>
            <a:ext cx="8229600" cy="3581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514440" y="4876920"/>
            <a:ext cx="61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the balance of accounts in the Income Statement credit column as a deb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SING ENTRY FOR ACCOUNTS WITH CREDIT BALA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val 5"/>
          <p:cNvSpPr/>
          <p:nvPr/>
        </p:nvSpPr>
        <p:spPr>
          <a:xfrm>
            <a:off x="5181480" y="25146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7"/>
          <p:cNvSpPr/>
          <p:nvPr/>
        </p:nvSpPr>
        <p:spPr>
          <a:xfrm>
            <a:off x="7543800" y="43434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14440" y="5537160"/>
            <a:ext cx="62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the total of debit entries as a credit to Income Summ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4, page 6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C21 PowerPoint\General_Journal\Art for Green\Ch26\Ch26-04c.jpg"/>
          <p:cNvPicPr/>
          <p:nvPr/>
        </p:nvPicPr>
        <p:blipFill>
          <a:blip r:embed="rId1"/>
          <a:srcRect l="10614" t="0" r="0" b="51059"/>
          <a:stretch/>
        </p:blipFill>
        <p:spPr>
          <a:xfrm>
            <a:off x="457200" y="1143000"/>
            <a:ext cx="6324480" cy="4970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SING ENTRY FOR ACCOUNTS WITH DEBIT BALA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705720" y="1738440"/>
            <a:ext cx="2209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the balance of every account in the Income Statement debit column as a cred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5"/>
          <p:cNvSpPr/>
          <p:nvPr/>
        </p:nvSpPr>
        <p:spPr>
          <a:xfrm>
            <a:off x="404640" y="184644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6"/>
          <p:cNvSpPr/>
          <p:nvPr/>
        </p:nvSpPr>
        <p:spPr>
          <a:xfrm>
            <a:off x="4343400" y="18288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705720" y="3930480"/>
            <a:ext cx="243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the total as a debit to Income Summ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705720" y="10666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Ent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ome Summ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4, page 6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12"/>
          <p:cNvGrpSpPr/>
          <p:nvPr/>
        </p:nvGrpSpPr>
        <p:grpSpPr>
          <a:xfrm>
            <a:off x="5181480" y="2209680"/>
            <a:ext cx="990720" cy="3810240"/>
            <a:chOff x="5181480" y="2209680"/>
            <a:chExt cx="990720" cy="3810240"/>
          </a:xfrm>
        </p:grpSpPr>
        <p:sp>
          <p:nvSpPr>
            <p:cNvPr id="66" name="Freeform 10"/>
            <p:cNvSpPr/>
            <p:nvPr/>
          </p:nvSpPr>
          <p:spPr>
            <a:xfrm>
              <a:off x="5486400" y="2209680"/>
              <a:ext cx="685800" cy="381024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1"/>
            <p:cNvSpPr/>
            <p:nvPr/>
          </p:nvSpPr>
          <p:spPr>
            <a:xfrm>
              <a:off x="5181480" y="380988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5"/>
          <p:cNvSpPr/>
          <p:nvPr/>
        </p:nvSpPr>
        <p:spPr>
          <a:xfrm>
            <a:off x="514440" y="4038480"/>
            <a:ext cx="62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ebit Income 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SING ENTRY TO RECORD NET INCO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5" descr="D:\C21 PowerPoint\Multi_Journal\art for blue\Ch26\Ch26-04c.jpg"/>
          <p:cNvPicPr/>
          <p:nvPr/>
        </p:nvPicPr>
        <p:blipFill>
          <a:blip r:embed="rId1"/>
          <a:srcRect l="10705" t="0" r="0" b="84013"/>
          <a:stretch/>
        </p:blipFill>
        <p:spPr>
          <a:xfrm>
            <a:off x="457200" y="1143000"/>
            <a:ext cx="8229600" cy="2114640"/>
          </a:xfrm>
          <a:prstGeom prst="rect">
            <a:avLst/>
          </a:prstGeom>
          <a:ln w="0">
            <a:noFill/>
          </a:ln>
        </p:spPr>
      </p:pic>
      <p:sp>
        <p:nvSpPr>
          <p:cNvPr id="71" name="Oval 13"/>
          <p:cNvSpPr/>
          <p:nvPr/>
        </p:nvSpPr>
        <p:spPr>
          <a:xfrm>
            <a:off x="5334120" y="2438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4"/>
          <p:cNvSpPr/>
          <p:nvPr/>
        </p:nvSpPr>
        <p:spPr>
          <a:xfrm>
            <a:off x="8399520" y="26668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514440" y="4403880"/>
            <a:ext cx="527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Retained Earn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4, page 6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SING ENTRY FOR DIVIDE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D:\C21 PowerPoint\Multi_Journal\art for blue\Ch26\Ch26-04d.jpg"/>
          <p:cNvPicPr/>
          <p:nvPr/>
        </p:nvPicPr>
        <p:blipFill>
          <a:blip r:embed="rId1"/>
          <a:srcRect l="19452" t="0" r="0" b="80405"/>
          <a:stretch/>
        </p:blipFill>
        <p:spPr>
          <a:xfrm>
            <a:off x="457200" y="1143000"/>
            <a:ext cx="8229600" cy="2697120"/>
          </a:xfrm>
          <a:prstGeom prst="rect">
            <a:avLst/>
          </a:prstGeom>
          <a:ln w="0">
            <a:noFill/>
          </a:ln>
        </p:spPr>
      </p:pic>
      <p:sp>
        <p:nvSpPr>
          <p:cNvPr id="77" name="Oval 5"/>
          <p:cNvSpPr/>
          <p:nvPr/>
        </p:nvSpPr>
        <p:spPr>
          <a:xfrm>
            <a:off x="5334120" y="2438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7"/>
          <p:cNvSpPr/>
          <p:nvPr/>
        </p:nvSpPr>
        <p:spPr>
          <a:xfrm>
            <a:off x="8399520" y="26668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514440" y="4038480"/>
            <a:ext cx="62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ebit Retained Earn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514440" y="4403880"/>
            <a:ext cx="527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Divid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4, page 6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9"/>
          <p:cNvSpPr/>
          <p:nvPr/>
        </p:nvSpPr>
        <p:spPr>
          <a:xfrm>
            <a:off x="6629400" y="84924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everse the entry that created a balance in Interest Receiv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ERSING ENTR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D:\C21 PowerPoint\Multi_Journal\art for blue\Ch26\Ch26-04e.jpg"/>
          <p:cNvPicPr/>
          <p:nvPr/>
        </p:nvPicPr>
        <p:blipFill>
          <a:blip r:embed="rId1"/>
          <a:srcRect l="18193" t="0" r="0" b="50526"/>
          <a:stretch/>
        </p:blipFill>
        <p:spPr>
          <a:xfrm>
            <a:off x="422280" y="914400"/>
            <a:ext cx="5521320" cy="5289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0"/>
          <p:cNvSpPr/>
          <p:nvPr/>
        </p:nvSpPr>
        <p:spPr>
          <a:xfrm>
            <a:off x="6629400" y="227664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rse the entry that created a balance in Interest Pay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6629400" y="343224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rse the entry that created a balance in Federal Income Tax Pay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25"/>
          <p:cNvGrpSpPr/>
          <p:nvPr/>
        </p:nvGrpSpPr>
        <p:grpSpPr>
          <a:xfrm>
            <a:off x="457200" y="1787400"/>
            <a:ext cx="5902200" cy="3505320"/>
            <a:chOff x="457200" y="1787400"/>
            <a:chExt cx="5902200" cy="3505320"/>
          </a:xfrm>
        </p:grpSpPr>
        <p:sp>
          <p:nvSpPr>
            <p:cNvPr id="88" name="Rectangle 11"/>
            <p:cNvSpPr/>
            <p:nvPr/>
          </p:nvSpPr>
          <p:spPr>
            <a:xfrm>
              <a:off x="457200" y="1787400"/>
              <a:ext cx="5334120" cy="422280"/>
            </a:xfrm>
            <a:prstGeom prst="rect">
              <a:avLst/>
            </a:prstGeom>
            <a:noFill/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14"/>
            <p:cNvSpPr/>
            <p:nvPr/>
          </p:nvSpPr>
          <p:spPr>
            <a:xfrm>
              <a:off x="457200" y="4870440"/>
              <a:ext cx="5334120" cy="422280"/>
            </a:xfrm>
            <a:prstGeom prst="rect">
              <a:avLst/>
            </a:prstGeom>
            <a:noFill/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17"/>
            <p:cNvSpPr/>
            <p:nvPr/>
          </p:nvSpPr>
          <p:spPr>
            <a:xfrm>
              <a:off x="5791320" y="1981080"/>
              <a:ext cx="380880" cy="312444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5"/>
            <p:cNvSpPr/>
            <p:nvPr/>
          </p:nvSpPr>
          <p:spPr>
            <a:xfrm>
              <a:off x="5978520" y="3429000"/>
              <a:ext cx="380880" cy="38088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27"/>
          <p:cNvGrpSpPr/>
          <p:nvPr/>
        </p:nvGrpSpPr>
        <p:grpSpPr>
          <a:xfrm>
            <a:off x="457200" y="2355840"/>
            <a:ext cx="6148440" cy="3359160"/>
            <a:chOff x="457200" y="2355840"/>
            <a:chExt cx="6148440" cy="3359160"/>
          </a:xfrm>
        </p:grpSpPr>
        <p:sp>
          <p:nvSpPr>
            <p:cNvPr id="93" name="Rectangle 12"/>
            <p:cNvSpPr/>
            <p:nvPr/>
          </p:nvSpPr>
          <p:spPr>
            <a:xfrm>
              <a:off x="457200" y="2355840"/>
              <a:ext cx="5334120" cy="422280"/>
            </a:xfrm>
            <a:prstGeom prst="rect">
              <a:avLst/>
            </a:prstGeom>
            <a:noFill/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15"/>
            <p:cNvSpPr/>
            <p:nvPr/>
          </p:nvSpPr>
          <p:spPr>
            <a:xfrm>
              <a:off x="457200" y="5292720"/>
              <a:ext cx="5334120" cy="422280"/>
            </a:xfrm>
            <a:prstGeom prst="rect">
              <a:avLst/>
            </a:prstGeom>
            <a:noFill/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8"/>
            <p:cNvSpPr/>
            <p:nvPr/>
          </p:nvSpPr>
          <p:spPr>
            <a:xfrm>
              <a:off x="5791320" y="2590920"/>
              <a:ext cx="609480" cy="28954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7"/>
            <p:cNvSpPr/>
            <p:nvPr/>
          </p:nvSpPr>
          <p:spPr>
            <a:xfrm>
              <a:off x="6224760" y="4038480"/>
              <a:ext cx="380880" cy="38124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26"/>
          <p:cNvGrpSpPr/>
          <p:nvPr/>
        </p:nvGrpSpPr>
        <p:grpSpPr>
          <a:xfrm>
            <a:off x="457200" y="2778120"/>
            <a:ext cx="6377040" cy="3352680"/>
            <a:chOff x="457200" y="2778120"/>
            <a:chExt cx="6377040" cy="3352680"/>
          </a:xfrm>
        </p:grpSpPr>
        <p:sp>
          <p:nvSpPr>
            <p:cNvPr id="98" name="Rectangle 13"/>
            <p:cNvSpPr/>
            <p:nvPr/>
          </p:nvSpPr>
          <p:spPr>
            <a:xfrm>
              <a:off x="457200" y="2778120"/>
              <a:ext cx="5334120" cy="422280"/>
            </a:xfrm>
            <a:prstGeom prst="rect">
              <a:avLst/>
            </a:prstGeom>
            <a:noFill/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6"/>
            <p:cNvSpPr/>
            <p:nvPr/>
          </p:nvSpPr>
          <p:spPr>
            <a:xfrm>
              <a:off x="457200" y="5708520"/>
              <a:ext cx="5334120" cy="422280"/>
            </a:xfrm>
            <a:prstGeom prst="rect">
              <a:avLst/>
            </a:prstGeom>
            <a:noFill/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19"/>
            <p:cNvSpPr/>
            <p:nvPr/>
          </p:nvSpPr>
          <p:spPr>
            <a:xfrm>
              <a:off x="5786280" y="2989440"/>
              <a:ext cx="843120" cy="287784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6"/>
            <p:cNvSpPr/>
            <p:nvPr/>
          </p:nvSpPr>
          <p:spPr>
            <a:xfrm>
              <a:off x="6453360" y="4648320"/>
              <a:ext cx="380880" cy="38088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Text Box 28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4, page 6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OUNTING CYCLE FOR A MERCHANDISING BUSINESS ORGANIZED AS A CORPO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D:\C21 PowerPoint\Multi_Journal\art for blue\Ch26\Ch26-04f.jpg"/>
          <p:cNvPicPr/>
          <p:nvPr/>
        </p:nvPicPr>
        <p:blipFill>
          <a:blip r:embed="rId1"/>
          <a:srcRect l="12809" t="0" r="0" b="26596"/>
          <a:stretch/>
        </p:blipFill>
        <p:spPr>
          <a:xfrm>
            <a:off x="457200" y="1143000"/>
            <a:ext cx="5002200" cy="5021280"/>
          </a:xfrm>
          <a:prstGeom prst="rect">
            <a:avLst/>
          </a:prstGeom>
          <a:ln w="0">
            <a:noFill/>
          </a:ln>
        </p:spPr>
      </p:pic>
      <p:sp>
        <p:nvSpPr>
          <p:cNvPr id="105" name="Oval 5"/>
          <p:cNvSpPr/>
          <p:nvPr/>
        </p:nvSpPr>
        <p:spPr>
          <a:xfrm>
            <a:off x="3886200" y="39625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3276720" y="18288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3352680" y="548640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3048120" y="3581280"/>
            <a:ext cx="38088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3886200" y="1752480"/>
            <a:ext cx="38088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662040" y="2954160"/>
            <a:ext cx="38088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4038480" y="2895480"/>
            <a:ext cx="38124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2"/>
          <p:cNvSpPr/>
          <p:nvPr/>
        </p:nvSpPr>
        <p:spPr>
          <a:xfrm>
            <a:off x="1676520" y="23623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13"/>
          <p:cNvSpPr/>
          <p:nvPr/>
        </p:nvSpPr>
        <p:spPr>
          <a:xfrm>
            <a:off x="914400" y="43434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495680" y="1077840"/>
            <a:ext cx="451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 documents checked for accuracy, and transactions are analyz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4495680" y="588312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ersing entries are journalized and posted to the general ledg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4937040" y="1674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actions are recorded in journa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5241960" y="2236680"/>
            <a:ext cx="374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urnal entries are posted to ledg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5529240" y="2800440"/>
            <a:ext cx="330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edules of accounts payable and accounts receivable are prepared from subsidiary ledg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5546880" y="3908520"/>
            <a:ext cx="32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 sheet is prepar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5546880" y="4189320"/>
            <a:ext cx="33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ial statements are prepar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5241960" y="4751280"/>
            <a:ext cx="321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justing and closing entries are journaliz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4937040" y="5315040"/>
            <a:ext cx="28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ost-closing trial balance is prepar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4, page 6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1T00:27:23Z</dcterms:created>
  <dc:creator>Mary Colleen McLaughlin</dc:creator>
  <dc:description/>
  <dc:language>en-US</dc:language>
  <cp:lastModifiedBy>David Combs</cp:lastModifiedBy>
  <dcterms:modified xsi:type="dcterms:W3CDTF">2012-01-02T02:58:44Z</dcterms:modified>
  <cp:revision>84</cp:revision>
  <dc:subject/>
  <dc:title>ADJUSTING ENTRY FOR SUPPLIES</dc:title>
</cp:coreProperties>
</file>